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6.png" ContentType="image/png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suction.wav" ContentType="audio/x-wav"/>
  <Override PartName="/ppt/media/image4.wmf" ContentType="image/x-wmf"/>
  <Override PartName="/ppt/media/click.wav" ContentType="audio/x-wav"/>
  <Override PartName="/ppt/media/image5.jpeg" ContentType="image/jpeg"/>
  <Override PartName="/ppt/media/laser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2EE-FD74-4C37-954B-5280DDF2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A51-F2D3-4E83-8B66-2F1B0026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21C-8A2F-4E3B-9359-731C7BEB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C6E-7BBD-4669-B2F2-28F3B536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B69-1B3E-45FC-B278-93C80CDF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E4D-DAA1-4CCB-B2B6-3ECA046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6A9-A20B-4107-BDBC-E98449E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216-573C-427C-B925-76AF4C3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625-B4F3-48EB-A673-62DD7EE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E24-65E8-46DA-9E5C-B04D69B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CD8-4E73-49CF-A6A2-1CC66F0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F26-352E-4EAD-B423-208B2945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948A-E366-48D9-B8C4-07F28DF4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125360"/>
            <a:ext cx="76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асен ли комариный укус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0">
    <p:zoom dir="out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000" y="1268280"/>
            <a:ext cx="2530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  <p:sndAc>
      <p:stSnd>
        <p:snd r:embed="rId1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vert"/>
    <p:sndAc>
      <p:stSnd>
        <p:snd r:embed="rId1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а от немалярий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ярий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маляри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а их тело образует с поверхностью воды всегда остр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zoom dir="in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е количество химических препаратов, отпугивающих насекомых -  репелленты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horz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.()БЕЛКИ?() 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УГЛЕВОДЫ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280" y="3860280"/>
            <a:ext cx="331956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37360" y="1409760"/>
            <a:ext cx="1714320" cy="1181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88944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 улетают в укрытия, где усваивают пищу и ждут, когда созреют яички. А потом уже остается подыскать удобное место для откладки 200 — 300 яичек, и цикл закон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очень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амцов они такой же длины, как и хоботок, или даже чуть больше, причем в большинстве случаев последний их членик имеет колбовидную форму и густо покрыт волос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97000" y="1268280"/>
            <a:ext cx="226548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lus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ая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а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2"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Мася</cp:lastModifiedBy>
  <dcterms:modified xsi:type="dcterms:W3CDTF">2009-10-16T20:26:39Z</dcterms:modified>
  <cp:revision>7</cp:revision>
  <dc:subject/>
  <dc:title>Слайд 1</dc:title>
</cp:coreProperties>
</file>